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1A01-0313-4854-B40B-FF5780BD1C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E036-CAD2-402E-BA64-C871F19BF8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FBF-B2E2-49A0-8D50-8C6BAF82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F37-4539-4E70-85F1-FC8ACD8D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8BE-7E1C-443F-9134-4ED6B62B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1C3-5E89-4463-BC99-2E9B18AF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E918-B8B6-49AF-8CD9-F0E22BDF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77B6-3BAC-453F-8528-16F6D526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6A9B-2D03-45F0-8BC4-F070C86A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7B05-689A-4806-82D5-7BEF8153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513D-1B31-443D-94A0-B2E5A581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E73E-6495-4471-BC95-FB2154B8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FA2A-5AC2-4D82-84D7-5D69C805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F4D-9835-4169-A0D3-10160FFB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D3C-045F-415A-A4D3-E402F8B0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53EC-F304-41B7-AB59-F4ADB3E5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42B2-BCE9-4C57-979B-10FC7FF4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8350-90A0-4BA5-920D-BEC3532A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C5C6-5431-486D-BDBD-3416AC28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D0A6C-814E-448D-A9BE-4A34CF07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1CC6-E1BA-4ACE-A6CB-CD0FEFFB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9483B-932E-4FA2-ACFF-3C618861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514A5-D50A-4928-A778-2D7FFF12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B9B25-E731-4C70-AE7C-F3D831F9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1B9-0C71-4CF9-B642-413858DC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2424-9CF0-4BC9-A43D-BDC9A7A2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67D6D-151E-4622-AAF2-A52A12A0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3CEA-47DE-45D7-89A2-650CCE8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0D0C-3A53-49A2-9644-9E6CD18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1116-2B24-4638-ACCD-CBAA64C5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EB37-17AE-43A8-AA5B-B5BC55D7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6ADF0-2519-4F9E-9B77-F87E21FC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807D-E532-477C-9412-46B0544D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6B8FB-F664-43D0-999D-5360AE41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C155A-1732-4AB7-ACD1-F4D9C426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EBB-2A10-4F06-97D6-BBDFC0D5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EDFEC-0714-4A0E-99E1-D39149AA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5B0FF-0513-41CF-AA64-CA144FDC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ADD6-53AB-4CBE-BF7D-43E99348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9D3C3-4FDE-4E28-B5AF-BE360DDB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73FD3-1386-4611-A844-D09E68A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B7D0C-947A-4921-B286-CEF38FF5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9FF83-441E-4B92-8D1E-1A809E32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286B2-CEA4-4470-9718-35EF1682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99304-F1BB-4913-A037-08E2B9B2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3F803-FF67-4857-A0E4-D1DE352A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DC2-61F9-4C18-B29C-326BD62A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DE895-C43D-4EF9-9D6B-D936583C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48931-AF77-4A6E-A456-C3368006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899A1-FC6B-4B57-A3AD-DCE5954F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0CC97-4F64-49B4-BA88-5C60A1DD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5C8A2-B59B-4928-8AA2-F86DB7C0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95888-03A8-4DC2-BF1D-AC6BD5AE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7BF5B-6DCF-4473-8A19-8862F85A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717EC-7F5F-4702-9EA6-40393EF6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AED89-7CC7-4BF8-9248-C4397743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E64F7-071C-4F6E-9C95-D5B455D6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D65-6849-4ADA-BC47-A2D952D7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1EB24-3A65-4A51-8CFC-93FD052A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35D-EB33-4724-8D00-7E3F410F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A75-E1A2-45C0-974B-633E2FBB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FD5-5AB1-47EB-B070-8C1E43BF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C2A9-1BC8-4D81-AB67-39FA964A7CF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3373-2CA0-4E9F-B211-BBAFCABAFFA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7E61-4CC8-4429-80E6-E7254BD5A37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7DEF-692B-44CF-BE65-877620AD9DC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CF62-2126-48DD-8CB4-FFDB659491B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\9dddefd664d642192a2a048932eb80a1.jpg"/>
          <p:cNvPicPr/>
          <p:nvPr/>
        </p:nvPicPr>
        <p:blipFill>
          <a:blip r:embed="rId1"/>
          <a:stretch/>
        </p:blipFill>
        <p:spPr>
          <a:xfrm>
            <a:off x="2195640" y="1131840"/>
            <a:ext cx="4827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8T17:31:12Z</dcterms:modified>
  <cp:revision>35</cp:revision>
  <dc:subject/>
  <dc:title>ТВОРЧЕСКАЯ ДЕЯТЕЛЬНОСТЬ: ЗНАКОМСТВО С ТЕХНИКОЙ ИЗОНИТЬ</dc:title>
</cp:coreProperties>
</file>